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WH_sectionopener_19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Oval 14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29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31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30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6"/>
          <p:cNvSpPr/>
          <p:nvPr/>
        </p:nvSpPr>
        <p:spPr>
          <a:xfrm>
            <a:off x="1779480" y="912960"/>
            <a:ext cx="6951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Arial"/>
              </a:rPr>
              <a:t>An Age of Explorations and Isolation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Arial"/>
              </a:rPr>
              <a:t>1400–1800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9"/>
          <p:cNvSpPr/>
          <p:nvPr/>
        </p:nvSpPr>
        <p:spPr>
          <a:xfrm>
            <a:off x="1773360" y="1936800"/>
            <a:ext cx="677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tivated by Christian faith and a desire for profit, Europeans explore distant lands, while Japanese and Chinese rulers isolate their societies from Europea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50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74800" y="2174760"/>
            <a:ext cx="54658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an Trade Outp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619, Dutch set up trade headquarters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avia, o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out 1600s, Dutch trade g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sterdam, Dutch capital, becomes wealthy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ch also control southern tip of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an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East India Company gains strength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ce also gains trade foothold in In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783800" y="1690560"/>
            <a:ext cx="45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Trading Empires in the Indian Ocean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4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30" name="Text Box 15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7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7"/>
          <p:cNvSpPr/>
          <p:nvPr/>
        </p:nvSpPr>
        <p:spPr>
          <a:xfrm>
            <a:off x="1370160" y="4051440"/>
            <a:ext cx="689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ces under the Ming and Qing dynasties leave China uninterested in European cont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68"/>
          <p:cNvGrpSpPr/>
          <p:nvPr/>
        </p:nvGrpSpPr>
        <p:grpSpPr>
          <a:xfrm>
            <a:off x="1370160" y="2397240"/>
            <a:ext cx="6010200" cy="1581480"/>
            <a:chOff x="1370160" y="2397240"/>
            <a:chExt cx="6010200" cy="1581480"/>
          </a:xfrm>
        </p:grpSpPr>
        <p:sp>
          <p:nvSpPr>
            <p:cNvPr id="136" name="Text Box 69"/>
            <p:cNvSpPr/>
            <p:nvPr/>
          </p:nvSpPr>
          <p:spPr>
            <a:xfrm>
              <a:off x="1370160" y="239724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70"/>
            <p:cNvSpPr/>
            <p:nvPr/>
          </p:nvSpPr>
          <p:spPr>
            <a:xfrm>
              <a:off x="1370160" y="2787480"/>
              <a:ext cx="601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Arial"/>
                </a:rPr>
                <a:t>China Limits European Contacts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Oval 71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67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9"/>
          <p:cNvSpPr/>
          <p:nvPr/>
        </p:nvSpPr>
        <p:spPr>
          <a:xfrm>
            <a:off x="1772280" y="1827360"/>
            <a:ext cx="60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China Under the Powerful Ming Dynasty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0"/>
          <p:cNvSpPr/>
          <p:nvPr/>
        </p:nvSpPr>
        <p:spPr>
          <a:xfrm>
            <a:off x="2270880" y="885960"/>
            <a:ext cx="627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Arial"/>
              </a:rPr>
              <a:t>China Limits European Contacts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1"/>
          <p:cNvSpPr/>
          <p:nvPr/>
        </p:nvSpPr>
        <p:spPr>
          <a:xfrm>
            <a:off x="1773360" y="2403360"/>
            <a:ext cx="578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ew Dyna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ing dynas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rules China from 1368 to 16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g rulers collect tribute from many Asia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2"/>
          <p:cNvSpPr/>
          <p:nvPr/>
        </p:nvSpPr>
        <p:spPr>
          <a:xfrm>
            <a:off x="1773360" y="3378240"/>
            <a:ext cx="57718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ise of the 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Hongw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peasa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son who leads army that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gols from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ing emperor, he begins agricultural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son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ongl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comes next emperor; mo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yal court to Bei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405, he launches first of voyages of expl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7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79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46" name="Text Box 80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81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82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5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3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774800" y="2174760"/>
            <a:ext cx="5465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oyages of Zheng 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admiral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Zheng 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ds seven lo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y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s gifts to show Chin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supe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783440" y="1690560"/>
            <a:ext cx="485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hina Under the Powerful Ming Dynasty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1774800" y="3460680"/>
            <a:ext cx="54658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g Relations with Foreig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500s, Chinese government controls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with outs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demand for Chinese goods helps Chin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 pros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policies favor farming 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 and merch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ristian missionaries bring European idea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5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58" name="Text Box 16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8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74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9"/>
          <p:cNvSpPr/>
          <p:nvPr/>
        </p:nvSpPr>
        <p:spPr>
          <a:xfrm>
            <a:off x="1772280" y="1598760"/>
            <a:ext cx="51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Manchus Found the Qing Dynasty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0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6"/>
          <p:cNvSpPr/>
          <p:nvPr/>
        </p:nvSpPr>
        <p:spPr>
          <a:xfrm>
            <a:off x="1773360" y="2174760"/>
            <a:ext cx="54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New Dyna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anch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people of Manchuria, in north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Qing dynas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Manchu rulers who take 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hina in 16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93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66" name="Text Box 94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95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6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Oval 98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0"/>
          <p:cNvSpPr/>
          <p:nvPr/>
        </p:nvSpPr>
        <p:spPr>
          <a:xfrm>
            <a:off x="1773360" y="3665520"/>
            <a:ext cx="5736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na Under the Q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sent rule by non-Chinese, often r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chus later gain acceptance through able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Kangx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emperor from 1661 to 1722—refo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, promotes 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ian-long—emperor from 1736 to 1795—exp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nese empi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9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774800" y="2174760"/>
            <a:ext cx="5465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chus Continue Chinese Is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think themselves culturally superio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eo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special rules for foreign traders to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ch accept these rules; British do not and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ed from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782360" y="1690560"/>
            <a:ext cx="42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anchus Found the Qing Dynasty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1773360" y="393228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rea Under the Manch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636, Manchus conquer 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rean people gradually develop feeling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t reflects rejection of Chinese wa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6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9" name="Text Box 17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9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767960" y="159876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Life in Ming and Qing China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773360" y="2174760"/>
            <a:ext cx="5445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ies and the Role of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arming techniques produce more crop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r population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ies favor sons over daugh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women work outside home, but most l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cted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7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87" name="Text Box 8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9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0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Oval 11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773360" y="3932280"/>
            <a:ext cx="57369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ltural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e based on tradition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ream of the Red Cha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iterary work) reve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chu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ys about Chin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history help unify Chin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1370160" y="2486160"/>
            <a:ext cx="7518600" cy="1078200"/>
            <a:chOff x="1370160" y="2486160"/>
            <a:chExt cx="7518600" cy="1078200"/>
          </a:xfrm>
        </p:grpSpPr>
        <p:sp>
          <p:nvSpPr>
            <p:cNvPr id="193" name="Text Box 50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1370160" y="2784600"/>
              <a:ext cx="7518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Arial"/>
                </a:rPr>
                <a:t>Japan Returns to Isolation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52"/>
          <p:cNvSpPr/>
          <p:nvPr/>
        </p:nvSpPr>
        <p:spPr>
          <a:xfrm>
            <a:off x="1370160" y="350028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okugawa regime unifies Japan and begins 250 years of isolation, autocracy, and economic grow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5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53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75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8"/>
          <p:cNvSpPr/>
          <p:nvPr/>
        </p:nvSpPr>
        <p:spPr>
          <a:xfrm>
            <a:off x="1774080" y="182736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A New Feudalism Under Strong Leader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9"/>
          <p:cNvSpPr/>
          <p:nvPr/>
        </p:nvSpPr>
        <p:spPr>
          <a:xfrm>
            <a:off x="2271240" y="885960"/>
            <a:ext cx="506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Arial"/>
              </a:rPr>
              <a:t>Japan Returns to Isolation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0"/>
          <p:cNvSpPr/>
          <p:nvPr/>
        </p:nvSpPr>
        <p:spPr>
          <a:xfrm>
            <a:off x="1773360" y="2403360"/>
            <a:ext cx="5788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 Lords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467, civil war destroys old feudal system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from 1467 to 1568 is called tim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ing State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Daimy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warrior-chieftains—are lords in new feud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eror is figurehead with no real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imyo build armies of mounted samurai and gu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aring infa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1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87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04" name="Text Box 88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89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90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Oval 93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5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774800" y="2174760"/>
            <a:ext cx="546588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Leaders Restore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Oda Nobunag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powerful daimyo who seiz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 of Kyoto in 15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bunaga tries to eliminate rival daimyo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dhist monast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582, commits suicide when an ally tur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yotomi Hideyos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bunag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1590, controls most of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unches invasion of Korea, but effort ends w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 d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782000" y="1690560"/>
            <a:ext cx="486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A New Feudalism Under Strong Leaders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3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15" name="Text Box 14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5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6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21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68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1"/>
          <p:cNvSpPr/>
          <p:nvPr/>
        </p:nvSpPr>
        <p:spPr>
          <a:xfrm>
            <a:off x="1779480" y="912960"/>
            <a:ext cx="6951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Arial"/>
              </a:rPr>
              <a:t>An Age of Explorations and Isolation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Arial"/>
              </a:rPr>
              <a:t>1400–1800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73">
            <a:hlinkClick r:id="rId1" action="ppaction://hlinksldjump"/>
          </p:cNvPr>
          <p:cNvSpPr/>
          <p:nvPr/>
        </p:nvSpPr>
        <p:spPr>
          <a:xfrm>
            <a:off x="2046240" y="251136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4">
            <a:hlinkClick r:id="rId2" action="ppaction://hlinksldjump"/>
          </p:cNvPr>
          <p:cNvSpPr/>
          <p:nvPr/>
        </p:nvSpPr>
        <p:spPr>
          <a:xfrm>
            <a:off x="2046240" y="30733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75">
            <a:hlinkClick r:id="rId3" action="ppaction://hlinksldjump"/>
          </p:cNvPr>
          <p:cNvSpPr/>
          <p:nvPr/>
        </p:nvSpPr>
        <p:spPr>
          <a:xfrm>
            <a:off x="2046240" y="364176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7"/>
          <p:cNvSpPr/>
          <p:nvPr/>
        </p:nvSpPr>
        <p:spPr>
          <a:xfrm>
            <a:off x="3845160" y="250200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s Explore the Ea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8"/>
          <p:cNvSpPr/>
          <p:nvPr/>
        </p:nvSpPr>
        <p:spPr>
          <a:xfrm>
            <a:off x="3844800" y="3078000"/>
            <a:ext cx="39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ina Limits European Conta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9"/>
          <p:cNvSpPr/>
          <p:nvPr/>
        </p:nvSpPr>
        <p:spPr>
          <a:xfrm>
            <a:off x="3844800" y="3625920"/>
            <a:ext cx="32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pan Returns to Iso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90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774800" y="2174760"/>
            <a:ext cx="54658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kugawa Shogunate Unites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ugawa Ieyasu takes over, comple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ication of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603, becomes shogun, or sole 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up capital at Edo, which grows to be Tok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restrictions to keep daimyo und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okugawa Shogun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ules Japan from 1603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6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782000" y="1690560"/>
            <a:ext cx="486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A New Feudalism Under Strong Leaders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7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9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25" name="Text Box 10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2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0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3"/>
          <p:cNvSpPr/>
          <p:nvPr/>
        </p:nvSpPr>
        <p:spPr>
          <a:xfrm>
            <a:off x="1772280" y="1598760"/>
            <a:ext cx="37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Life in Tokugawa Japan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4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9"/>
          <p:cNvSpPr/>
          <p:nvPr/>
        </p:nvSpPr>
        <p:spPr>
          <a:xfrm>
            <a:off x="1773360" y="2174760"/>
            <a:ext cx="54450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ety in Tokugawa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period of peace, prosperity, cultural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d society, with shogun as actual 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ucian ideas influence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sants suffer from high taxes; many le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s for 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mid-1700s, Japan becoming urban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women lead sheltered l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82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33" name="Text Box 83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84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85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Oval 95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3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774800" y="2174760"/>
            <a:ext cx="54658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lture Under the Tokugawa Shogu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culture th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gi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ramas popular among samu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wnspeople enjoy new type of realistic f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people enjoy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hai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three-line poetry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s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Kabuk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ater—skits with elaborate costum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ic, and 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780920" y="1690560"/>
            <a:ext cx="32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Life in Tokugawa Jap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7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8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44" name="Text Box 9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0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1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62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3"/>
          <p:cNvSpPr/>
          <p:nvPr/>
        </p:nvSpPr>
        <p:spPr>
          <a:xfrm>
            <a:off x="1774440" y="1598760"/>
            <a:ext cx="54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Contact Between Europe and Japan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4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5"/>
          <p:cNvSpPr/>
          <p:nvPr/>
        </p:nvSpPr>
        <p:spPr>
          <a:xfrm>
            <a:off x="1773360" y="2174760"/>
            <a:ext cx="58896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tugal Sends Ships, Merchants, and Technology to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540s, European traders begin arriving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d by Japan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firearms change Japanese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figh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66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52" name="Text Box 67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68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69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Oval 73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1"/>
          <p:cNvSpPr/>
          <p:nvPr/>
        </p:nvSpPr>
        <p:spPr>
          <a:xfrm>
            <a:off x="1774800" y="4013280"/>
            <a:ext cx="5465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tian Missionaries in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549, first Christian missionaries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1600, about 300,000 Japanese are Christ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rulers upset by this, ban Christia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ter 1637 rebellion, Christianity is forbidden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p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773360" y="159876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The Closed Country Policy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773360" y="2174760"/>
            <a:ext cx="5889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Europeans arrive when Japan has no cent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guns, who later take power, dislike Europe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, ways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7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62" name="Text Box 8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0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Oval 11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1774800" y="3718080"/>
            <a:ext cx="5465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pan in Is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guns limit European trade to port of Nagas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Dutch and Chinese are allowed to trad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guns control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ese people are forbidden to travel ab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pan develops in 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6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6" descr="WH_printscreen_19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7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1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7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1"/>
          <p:cNvSpPr/>
          <p:nvPr/>
        </p:nvSpPr>
        <p:spPr>
          <a:xfrm>
            <a:off x="3305160" y="1274760"/>
            <a:ext cx="5457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57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8" descr="CH1a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5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9"/>
          <p:cNvGrpSpPr/>
          <p:nvPr/>
        </p:nvGrpSpPr>
        <p:grpSpPr>
          <a:xfrm>
            <a:off x="1370160" y="2486160"/>
            <a:ext cx="5391360" cy="1600560"/>
            <a:chOff x="1370160" y="2486160"/>
            <a:chExt cx="5391360" cy="1600560"/>
          </a:xfrm>
        </p:grpSpPr>
        <p:sp>
          <p:nvSpPr>
            <p:cNvPr id="59" name="Text Box 30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31"/>
            <p:cNvSpPr/>
            <p:nvPr/>
          </p:nvSpPr>
          <p:spPr>
            <a:xfrm>
              <a:off x="1370160" y="2895480"/>
              <a:ext cx="5391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Arial"/>
                </a:rPr>
                <a:t>Europeans Explore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  <a:ea typeface="Arial"/>
                </a:rPr>
                <a:t>the East</a:t>
              </a: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32"/>
          <p:cNvSpPr/>
          <p:nvPr/>
        </p:nvSpPr>
        <p:spPr>
          <a:xfrm>
            <a:off x="1371960" y="4129200"/>
            <a:ext cx="636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ces in sailing technology en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uropeans to explore other parts of the wor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3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54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8"/>
          <p:cNvSpPr/>
          <p:nvPr/>
        </p:nvSpPr>
        <p:spPr>
          <a:xfrm>
            <a:off x="1767960" y="1827360"/>
            <a:ext cx="42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For </a:t>
            </a:r>
            <a:r>
              <a:rPr b="1" lang="ja-JP" sz="2400" spc="-1" strike="noStrike">
                <a:solidFill>
                  <a:srgbClr val="cc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God, Glory, and Gold</a:t>
            </a:r>
            <a:r>
              <a:rPr b="1" lang="ja-JP" sz="2400" spc="-1" strike="noStrike">
                <a:solidFill>
                  <a:srgbClr val="cc0000"/>
                </a:solidFill>
                <a:latin typeface="Arial"/>
                <a:ea typeface="Arial"/>
              </a:rPr>
              <a:t>”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9"/>
          <p:cNvSpPr/>
          <p:nvPr/>
        </p:nvSpPr>
        <p:spPr>
          <a:xfrm>
            <a:off x="2269080" y="885960"/>
            <a:ext cx="534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  <a:ea typeface="Arial"/>
              </a:rPr>
              <a:t>Europeans Explore the East</a:t>
            </a: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0"/>
          <p:cNvSpPr/>
          <p:nvPr/>
        </p:nvSpPr>
        <p:spPr>
          <a:xfrm>
            <a:off x="1773360" y="2428920"/>
            <a:ext cx="55306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Contact Lim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esire for contact with Asia develop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 in early 140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1"/>
          <p:cNvSpPr/>
          <p:nvPr/>
        </p:nvSpPr>
        <p:spPr>
          <a:xfrm>
            <a:off x="1773360" y="3409920"/>
            <a:ext cx="5860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ans Seek New Trade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reason for exploration is to gain w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during Crusades spurs demand for As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and Italians control trade from East to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European nations want to bypass these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63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69" name="Text Box 164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65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66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Line 167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68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9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774800" y="217476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read of Christia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 to spread Christianity also sp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uguese explorer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Bartolomeu D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 God and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783080" y="1690560"/>
            <a:ext cx="36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For </a:t>
            </a:r>
            <a:r>
              <a:rPr b="1" lang="ja-JP" sz="1600" spc="-1" strike="noStrike">
                <a:solidFill>
                  <a:srgbClr val="cc0000"/>
                </a:solidFill>
                <a:latin typeface="Arial"/>
                <a:ea typeface="Arial"/>
              </a:rPr>
              <a:t>“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God, Glory, and Gold</a:t>
            </a:r>
            <a:r>
              <a:rPr b="1" lang="ja-JP" sz="1600" spc="-1" strike="noStrike">
                <a:solidFill>
                  <a:srgbClr val="cc0000"/>
                </a:solidFill>
                <a:latin typeface="Arial"/>
                <a:ea typeface="Arial"/>
              </a:rPr>
              <a:t>”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773360" y="3700440"/>
            <a:ext cx="5736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Makes Exploratio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400s, the caravel makes it possible to sa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st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abe makes navigation ea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gnetic compass improves tracking of dir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3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2" name="Text Box 14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5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6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84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5"/>
          <p:cNvSpPr/>
          <p:nvPr/>
        </p:nvSpPr>
        <p:spPr>
          <a:xfrm>
            <a:off x="1773360" y="159876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Portugal Leads the Way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6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8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9" name="Text Box 89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0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91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92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rtuguese Explore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ince Hen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n of Portug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expl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419, he founds navigation school on coa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1460, Portuguese have trading posts alo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 coast of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3"/>
          <p:cNvSpPr/>
          <p:nvPr/>
        </p:nvSpPr>
        <p:spPr>
          <a:xfrm>
            <a:off x="1773360" y="4221000"/>
            <a:ext cx="541944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tuguese Sailors Reach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488, Dias sails around southern tip of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498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asco da Ga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ils to 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499, da Gama returns to Portugal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uable car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96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773720" y="159876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Spain Also Makes Claim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9" name="Text Box 7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8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10"/>
          <p:cNvSpPr/>
          <p:nvPr/>
        </p:nvSpPr>
        <p:spPr>
          <a:xfrm>
            <a:off x="1773360" y="2174760"/>
            <a:ext cx="5445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ival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492, Christopher Columbus sails for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inces Spanish to support plan to reach A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ailing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Americas 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Americas to exploration and col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493, pope divides these lands between Sp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reement formalized by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Treaty of Tordesill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149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00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1"/>
          <p:cNvSpPr/>
          <p:nvPr/>
        </p:nvSpPr>
        <p:spPr>
          <a:xfrm>
            <a:off x="1769760" y="1598760"/>
            <a:ext cx="556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Trading Empires in the Indian Ocean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2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03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08" name="Text Box 104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05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06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110"/>
          <p:cNvSpPr/>
          <p:nvPr/>
        </p:nvSpPr>
        <p:spPr>
          <a:xfrm>
            <a:off x="1773360" y="2174760"/>
            <a:ext cx="54450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tugal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Trading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509, Portugal defeats Muslims, takes 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Ocean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510, Portugal captures Goa, port city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511, Portugal seizes Malacca, on Ma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ins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gains break Muslim-Italian hold on As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7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2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74800" y="2174760"/>
            <a:ext cx="54658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Nations Challenge the Portugu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ish and Dutch begin moving into Asia in 17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ch have more ships (20,000) than any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 in 1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ch and English weaken Portuguese control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an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ch then overpower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utch East India Company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Asian tr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783800" y="1690560"/>
            <a:ext cx="45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Trading Empires in the Indian Ocean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0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20" name="Text Box 11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14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PA Department of Education Classrooms for the Future</cp:lastModifiedBy>
  <cp:lastPrinted>2003-11-12T20:33:16Z</cp:lastPrinted>
  <dcterms:modified xsi:type="dcterms:W3CDTF">2013-01-07T13:45:13Z</dcterms:modified>
  <cp:revision>823</cp:revision>
  <dc:subject/>
  <dc:title>No Slide Title</dc:title>
</cp:coreProperties>
</file>